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AFA-02A0-4D07-914E-7E0A8D22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EB8-FF6A-44BD-9998-A41F86F0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E42-E825-4FB3-9F40-1B837F37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A05-FACC-4FF0-9ED4-DE58430E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6DFA-9554-429B-B04D-6128B3CD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B4AD-D001-489A-9B6E-EE6D20F0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DCA4-9F33-4D92-B38A-B4852037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8E17-636A-4C79-A768-AC2945DE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E5D9-8B68-4BC7-BE53-FF08BB7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4262-3E37-49AD-A35F-EF1FF133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D2FB-3C2A-4CCA-8ABA-EC96B95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BE1-FF12-43B5-9D7C-F1912DAE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83F-CDD1-4EB2-B6FD-B7D3A267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9262-9484-4C64-A655-5898CCAB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DE6F-076F-4C36-BA06-84F126C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01F0-A719-4E70-A487-F67F8AB2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BFD2-DD40-4B6D-A29F-E9009714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001-8ADD-4D6C-A96A-7DA5E2A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DE9-D7DC-4791-B413-ED95E01E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3BF-A92D-4898-AD1F-90F3566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7C2-88FE-489C-A882-39C9A5F7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9CD-082A-4550-8C34-D0CD3A8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871-1C99-4AE1-A0B6-451ED208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C4F-FBE4-43CB-B6D9-17CCF35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76D5-3589-4EC3-9B47-AEB3405A007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D1CE-87E6-4936-9204-0D4D0B87F91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09680"/>
            <a:ext cx="7924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СТЕОПОРОЗА- ПАНДЕМИЯТА НА 21- ВИ ВЕК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.П.Данилов, М.Р.Восковец, А.Н.Алексе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вокузнец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ТЕОПОРО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ждевременно стареене на съединителната тък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фицит на калций и други микроелемен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ЛОША ЕКОЛОГИЯ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+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ПРАВИЛНО ХРАНЕНЕ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=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РАТКА ПРОДЪЛЖИТЕЛНОСТ НА ЖИВОТ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Експериментална обосновка за използването на продуктите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ral-Mine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 Микрохидрин за корекции при остеопороз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62120" y="210960"/>
          <a:ext cx="7772400" cy="657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0960"/>
                    <a:ext cx="7772400" cy="657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62120" y="-3240"/>
          <a:ext cx="7543800" cy="679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3240"/>
                    <a:ext cx="754380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5800" y="174600"/>
          <a:ext cx="7924680" cy="663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600"/>
                    <a:ext cx="7924680" cy="663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22160" y="182520"/>
          <a:ext cx="7697880" cy="649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82520"/>
                    <a:ext cx="769788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езултати от клиничното прилагане на М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M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gi C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Увеличаване на МПКТ в резултат </a:t>
            </a:r>
            <a:r>
              <a:rPr b="1" lang="bg-BG" sz="3200" spc="-1" strike="noStrike">
                <a:solidFill>
                  <a:srgbClr val="eaeaea"/>
                </a:solidFill>
                <a:latin typeface="Tahoma"/>
              </a:rPr>
              <a:t>на прилагането на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МСМ и Меджик калций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43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808280" y="1986120"/>
            <a:ext cx="6030720" cy="9686880"/>
            <a:chOff x="1808280" y="1986120"/>
            <a:chExt cx="6030720" cy="9686880"/>
          </a:xfrm>
        </p:grpSpPr>
        <p:sp>
          <p:nvSpPr>
            <p:cNvPr id="146" name=""/>
            <p:cNvSpPr/>
            <p:nvPr/>
          </p:nvSpPr>
          <p:spPr>
            <a:xfrm>
              <a:off x="1808280" y="1986120"/>
              <a:ext cx="5761080" cy="48276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85960" y="2797200"/>
              <a:ext cx="4399200" cy="3193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85960" y="5462640"/>
              <a:ext cx="439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5960" y="4923000"/>
              <a:ext cx="439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85960" y="4394160"/>
              <a:ext cx="4399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85960" y="3865680"/>
              <a:ext cx="439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5960" y="3325680"/>
              <a:ext cx="4399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85960" y="2797200"/>
              <a:ext cx="439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85960" y="2797200"/>
              <a:ext cx="4399200" cy="319392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5960" y="2797200"/>
              <a:ext cx="1800" cy="319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0520" y="599112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0520" y="546264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30520" y="492300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30520" y="439416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30520" y="386568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30520" y="332568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30520" y="279720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85960" y="5991120"/>
              <a:ext cx="4399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685960" y="599076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890960" y="599076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085160" y="599076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789360" y="4292280"/>
              <a:ext cx="2192400" cy="31572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789360" y="3618000"/>
              <a:ext cx="2192400" cy="42696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789360" y="3650760"/>
              <a:ext cx="2192400" cy="23652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789360" y="3730320"/>
              <a:ext cx="2192400" cy="39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789360" y="4157280"/>
              <a:ext cx="2192400" cy="5065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789360" y="3303360"/>
              <a:ext cx="2192400" cy="19044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789360" y="3516120"/>
              <a:ext cx="2192400" cy="3157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789360" y="3358800"/>
              <a:ext cx="2192400" cy="2142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789360" y="4101840"/>
              <a:ext cx="2192400" cy="19044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89360" y="4529160"/>
              <a:ext cx="2192400" cy="55440"/>
            </a:xfrm>
            <a:prstGeom prst="line">
              <a:avLst/>
            </a:prstGeom>
            <a:ln w="11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4440" y="457344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48280" y="4259160"/>
              <a:ext cx="6840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lnTo>
                    <a:pt x="43" y="21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4440" y="4011480"/>
              <a:ext cx="6840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8280" y="3584520"/>
              <a:ext cx="6840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54440" y="3854520"/>
              <a:ext cx="6840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2" y="0"/>
                  </a:moveTo>
                  <a:lnTo>
                    <a:pt x="43" y="42"/>
                  </a:lnTo>
                  <a:lnTo>
                    <a:pt x="0" y="4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8280" y="361800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3280" y="4079880"/>
              <a:ext cx="11268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3754080" y="4091040"/>
              <a:ext cx="34920" cy="331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89360" y="4124160"/>
              <a:ext cx="3348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54080" y="4124160"/>
              <a:ext cx="3492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789360" y="4091040"/>
              <a:ext cx="33480" cy="331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37120" y="3686040"/>
              <a:ext cx="11268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5947920" y="3696840"/>
              <a:ext cx="3348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81760" y="3730680"/>
              <a:ext cx="34920" cy="331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947920" y="3730680"/>
              <a:ext cx="33480" cy="331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981760" y="3696840"/>
              <a:ext cx="3492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43280" y="461952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754080" y="4630320"/>
              <a:ext cx="349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89360" y="4664160"/>
              <a:ext cx="3348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754080" y="4664160"/>
              <a:ext cx="3492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789360" y="4630320"/>
              <a:ext cx="3348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789360" y="4630320"/>
              <a:ext cx="144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89360" y="4664160"/>
              <a:ext cx="144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37120" y="411336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5947920" y="4123800"/>
              <a:ext cx="3348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1760" y="4157640"/>
              <a:ext cx="349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947920" y="4157640"/>
              <a:ext cx="3348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981760" y="4123800"/>
              <a:ext cx="349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981760" y="4123800"/>
              <a:ext cx="144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81760" y="4157640"/>
              <a:ext cx="144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54440" y="3460680"/>
              <a:ext cx="68400" cy="66600"/>
            </a:xfrm>
            <a:prstGeom prst="ellipse">
              <a:avLst/>
            </a:prstGeom>
            <a:solidFill>
              <a:srgbClr val="800000"/>
            </a:solidFill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8280" y="3268800"/>
              <a:ext cx="68400" cy="68040"/>
            </a:xfrm>
            <a:prstGeom prst="ellipse">
              <a:avLst/>
            </a:prstGeom>
            <a:solidFill>
              <a:srgbClr val="800000"/>
            </a:solidFill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43280" y="378612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789360" y="3796920"/>
              <a:ext cx="1440" cy="349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89360" y="3832200"/>
              <a:ext cx="1440" cy="3348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754080" y="3832200"/>
              <a:ext cx="3492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89360" y="3832200"/>
              <a:ext cx="3348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37120" y="347184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981760" y="3482640"/>
              <a:ext cx="1440" cy="3348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81760" y="3516480"/>
              <a:ext cx="1440" cy="331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947920" y="3516480"/>
              <a:ext cx="3348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81760" y="3516480"/>
              <a:ext cx="3492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89360" y="3562200"/>
              <a:ext cx="44280" cy="2232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81760" y="3348000"/>
              <a:ext cx="46080" cy="2232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54440" y="4281480"/>
              <a:ext cx="79200" cy="22320"/>
            </a:xfrm>
            <a:prstGeom prst="rect">
              <a:avLst/>
            </a:prstGeom>
            <a:solidFill>
              <a:srgbClr val="00ccff"/>
            </a:solidFill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8280" y="4091040"/>
              <a:ext cx="79560" cy="22320"/>
            </a:xfrm>
            <a:prstGeom prst="rect">
              <a:avLst/>
            </a:prstGeom>
            <a:solidFill>
              <a:srgbClr val="00ccff"/>
            </a:solidFill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54440" y="455148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cffff"/>
            </a:solidFill>
            <a:ln w="11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48280" y="4495680"/>
              <a:ext cx="68400" cy="66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lnTo>
                    <a:pt x="43" y="21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cffff"/>
            </a:solidFill>
            <a:ln w="11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73920" y="2144880"/>
              <a:ext cx="464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Динамика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на МПКТ при прилагане на МСМ и Меджи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8000" y="2379600"/>
              <a:ext cx="68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калц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83640" y="5891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3560" y="5361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83560" y="4821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83560" y="4292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83560" y="3763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4560" y="3224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4560" y="2695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8640" y="6149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82480" y="6149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73840" y="6296040"/>
              <a:ext cx="362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1- изходни данни, 2- след реабилитац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38640" y="65311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1477800" y="4447080"/>
              <a:ext cx="109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МПКТ нор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89800" y="3832200"/>
              <a:ext cx="33480" cy="238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34440" y="3944880"/>
              <a:ext cx="304560" cy="180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7120" y="390996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2"/>
                  </a:lnTo>
                  <a:lnTo>
                    <a:pt x="21" y="43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34440" y="4799160"/>
              <a:ext cx="304560" cy="144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47120" y="4765680"/>
              <a:ext cx="6804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34440" y="5654520"/>
              <a:ext cx="304560" cy="180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47120" y="561960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34440" y="6508800"/>
              <a:ext cx="304560" cy="144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5960" y="646416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7647120" y="6474960"/>
              <a:ext cx="3312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80240" y="6508800"/>
              <a:ext cx="34920" cy="349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47120" y="6508800"/>
              <a:ext cx="33120" cy="349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80240" y="6474960"/>
              <a:ext cx="3492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34440" y="7364520"/>
              <a:ext cx="304560" cy="144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35960" y="7319880"/>
              <a:ext cx="11268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7647120" y="7330680"/>
              <a:ext cx="331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80240" y="7364520"/>
              <a:ext cx="3492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647120" y="7364520"/>
              <a:ext cx="3312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680240" y="7330680"/>
              <a:ext cx="349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680240" y="7330680"/>
              <a:ext cx="180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80240" y="7364520"/>
              <a:ext cx="180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34440" y="8218440"/>
              <a:ext cx="304560" cy="180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47120" y="8185320"/>
              <a:ext cx="68040" cy="68040"/>
            </a:xfrm>
            <a:prstGeom prst="ellipse">
              <a:avLst/>
            </a:prstGeom>
            <a:solidFill>
              <a:srgbClr val="800000"/>
            </a:solidFill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34440" y="9074160"/>
              <a:ext cx="30456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5960" y="902988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80240" y="9040320"/>
              <a:ext cx="1800" cy="3348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80240" y="9074160"/>
              <a:ext cx="1800" cy="3348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647120" y="9074160"/>
              <a:ext cx="3312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80240" y="9074160"/>
              <a:ext cx="3492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34440" y="9929880"/>
              <a:ext cx="304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80240" y="9918720"/>
              <a:ext cx="46080" cy="2232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4440" y="10783800"/>
              <a:ext cx="304560" cy="180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7120" y="10772640"/>
              <a:ext cx="79200" cy="22320"/>
            </a:xfrm>
            <a:prstGeom prst="rect">
              <a:avLst/>
            </a:prstGeom>
            <a:solidFill>
              <a:srgbClr val="00ccff"/>
            </a:solidFill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4440" y="11639520"/>
              <a:ext cx="304560" cy="1440"/>
            </a:xfrm>
            <a:prstGeom prst="line">
              <a:avLst/>
            </a:prstGeom>
            <a:ln w="11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47120" y="11606040"/>
              <a:ext cx="68040" cy="66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lnTo>
                    <a:pt x="43" y="21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cffff"/>
            </a:solidFill>
            <a:ln w="11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08280" y="1986120"/>
              <a:ext cx="5761080" cy="482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Увеличаване на МПКТ в резултат на прилагане на МСМ и Меджик калций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43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1282680" y="1884240"/>
            <a:ext cx="6591240" cy="4929480"/>
            <a:chOff x="1282680" y="1884240"/>
            <a:chExt cx="6591240" cy="4929480"/>
          </a:xfrm>
        </p:grpSpPr>
        <p:sp>
          <p:nvSpPr>
            <p:cNvPr id="279" name=""/>
            <p:cNvSpPr/>
            <p:nvPr/>
          </p:nvSpPr>
          <p:spPr>
            <a:xfrm>
              <a:off x="1282680" y="1884240"/>
              <a:ext cx="6502320" cy="4929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73520" y="5272200"/>
              <a:ext cx="4682880" cy="460440"/>
            </a:xfrm>
            <a:custGeom>
              <a:avLst/>
              <a:gdLst/>
              <a:ahLst/>
              <a:rect l="l" t="t" r="r" b="b"/>
              <a:pathLst>
                <a:path w="2950" h="290">
                  <a:moveTo>
                    <a:pt x="0" y="290"/>
                  </a:moveTo>
                  <a:lnTo>
                    <a:pt x="433" y="0"/>
                  </a:lnTo>
                  <a:lnTo>
                    <a:pt x="2950" y="0"/>
                  </a:lnTo>
                  <a:lnTo>
                    <a:pt x="2517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3520" y="2762280"/>
              <a:ext cx="687240" cy="2970360"/>
            </a:xfrm>
            <a:custGeom>
              <a:avLst/>
              <a:gdLst/>
              <a:ahLst/>
              <a:rect l="l" t="t" r="r" b="b"/>
              <a:pathLst>
                <a:path w="433" h="1871">
                  <a:moveTo>
                    <a:pt x="0" y="1871"/>
                  </a:moveTo>
                  <a:lnTo>
                    <a:pt x="0" y="291"/>
                  </a:lnTo>
                  <a:lnTo>
                    <a:pt x="433" y="0"/>
                  </a:lnTo>
                  <a:lnTo>
                    <a:pt x="433" y="158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60760" y="2762280"/>
              <a:ext cx="3995640" cy="2509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73520" y="5272200"/>
              <a:ext cx="4682880" cy="46044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73520" y="4991040"/>
              <a:ext cx="4682880" cy="46044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3520" y="4719600"/>
              <a:ext cx="4682880" cy="450720"/>
            </a:xfrm>
            <a:custGeom>
              <a:avLst/>
              <a:gdLst/>
              <a:ahLst/>
              <a:rect l="l" t="t" r="r" b="b"/>
              <a:pathLst>
                <a:path w="368" h="40">
                  <a:moveTo>
                    <a:pt x="0" y="40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73520" y="4438800"/>
              <a:ext cx="4682880" cy="46188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73520" y="4157640"/>
              <a:ext cx="4682880" cy="46188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3520" y="3876840"/>
              <a:ext cx="4682880" cy="46008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73520" y="3595680"/>
              <a:ext cx="4682880" cy="46044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3520" y="3325680"/>
              <a:ext cx="4682880" cy="449280"/>
            </a:xfrm>
            <a:custGeom>
              <a:avLst/>
              <a:gdLst/>
              <a:ahLst/>
              <a:rect l="l" t="t" r="r" b="b"/>
              <a:pathLst>
                <a:path w="368" h="40">
                  <a:moveTo>
                    <a:pt x="0" y="40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73520" y="3043080"/>
              <a:ext cx="4682880" cy="46224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73520" y="2762280"/>
              <a:ext cx="4682880" cy="46188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73520" y="5272200"/>
              <a:ext cx="4682880" cy="460440"/>
            </a:xfrm>
            <a:custGeom>
              <a:avLst/>
              <a:gdLst/>
              <a:ahLst/>
              <a:rect l="l" t="t" r="r" b="b"/>
              <a:pathLst>
                <a:path w="2950" h="290">
                  <a:moveTo>
                    <a:pt x="2950" y="0"/>
                  </a:moveTo>
                  <a:lnTo>
                    <a:pt x="2517" y="290"/>
                  </a:lnTo>
                  <a:lnTo>
                    <a:pt x="0" y="290"/>
                  </a:lnTo>
                  <a:lnTo>
                    <a:pt x="433" y="0"/>
                  </a:lnTo>
                  <a:lnTo>
                    <a:pt x="29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73520" y="2762280"/>
              <a:ext cx="687240" cy="2970360"/>
            </a:xfrm>
            <a:custGeom>
              <a:avLst/>
              <a:gdLst/>
              <a:ahLst/>
              <a:rect l="l" t="t" r="r" b="b"/>
              <a:pathLst>
                <a:path w="433" h="1871">
                  <a:moveTo>
                    <a:pt x="0" y="1871"/>
                  </a:moveTo>
                  <a:lnTo>
                    <a:pt x="0" y="291"/>
                  </a:lnTo>
                  <a:lnTo>
                    <a:pt x="433" y="0"/>
                  </a:lnTo>
                  <a:lnTo>
                    <a:pt x="433" y="1581"/>
                  </a:lnTo>
                  <a:lnTo>
                    <a:pt x="0" y="1871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60760" y="2762280"/>
              <a:ext cx="3995640" cy="25099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76600" y="4573440"/>
              <a:ext cx="279720" cy="1024200"/>
            </a:xfrm>
            <a:custGeom>
              <a:avLst/>
              <a:gdLst/>
              <a:ahLst/>
              <a:rect l="l" t="t" r="r" b="b"/>
              <a:pathLst>
                <a:path w="176" h="645">
                  <a:moveTo>
                    <a:pt x="0" y="645"/>
                  </a:moveTo>
                  <a:lnTo>
                    <a:pt x="0" y="114"/>
                  </a:lnTo>
                  <a:lnTo>
                    <a:pt x="176" y="0"/>
                  </a:lnTo>
                  <a:lnTo>
                    <a:pt x="176" y="532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75240" y="4754520"/>
              <a:ext cx="801360" cy="84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75240" y="4573440"/>
              <a:ext cx="1081080" cy="181080"/>
            </a:xfrm>
            <a:custGeom>
              <a:avLst/>
              <a:gdLst/>
              <a:ahLst/>
              <a:rect l="l" t="t" r="r" b="b"/>
              <a:pathLst>
                <a:path w="681" h="114">
                  <a:moveTo>
                    <a:pt x="505" y="114"/>
                  </a:moveTo>
                  <a:lnTo>
                    <a:pt x="681" y="0"/>
                  </a:lnTo>
                  <a:lnTo>
                    <a:pt x="176" y="0"/>
                  </a:lnTo>
                  <a:lnTo>
                    <a:pt x="0" y="114"/>
                  </a:lnTo>
                  <a:lnTo>
                    <a:pt x="505" y="114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73880" y="2987640"/>
              <a:ext cx="280800" cy="2610000"/>
            </a:xfrm>
            <a:custGeom>
              <a:avLst/>
              <a:gdLst/>
              <a:ahLst/>
              <a:rect l="l" t="t" r="r" b="b"/>
              <a:pathLst>
                <a:path w="177" h="1644">
                  <a:moveTo>
                    <a:pt x="0" y="1644"/>
                  </a:moveTo>
                  <a:lnTo>
                    <a:pt x="0" y="113"/>
                  </a:lnTo>
                  <a:lnTo>
                    <a:pt x="177" y="0"/>
                  </a:lnTo>
                  <a:lnTo>
                    <a:pt x="177" y="1531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72160" y="3166920"/>
              <a:ext cx="801720" cy="2430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72160" y="2987640"/>
              <a:ext cx="1082520" cy="179280"/>
            </a:xfrm>
            <a:custGeom>
              <a:avLst/>
              <a:gdLst/>
              <a:ahLst/>
              <a:rect l="l" t="t" r="r" b="b"/>
              <a:pathLst>
                <a:path w="682" h="113">
                  <a:moveTo>
                    <a:pt x="505" y="113"/>
                  </a:moveTo>
                  <a:lnTo>
                    <a:pt x="682" y="0"/>
                  </a:lnTo>
                  <a:lnTo>
                    <a:pt x="177" y="0"/>
                  </a:lnTo>
                  <a:lnTo>
                    <a:pt x="0" y="113"/>
                  </a:lnTo>
                  <a:lnTo>
                    <a:pt x="505" y="113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873520" y="3224160"/>
              <a:ext cx="1440" cy="2508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809440" y="573264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809440" y="545148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09440" y="517032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809440" y="490068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809440" y="461952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809440" y="433692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809440" y="40561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09440" y="377496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09440" y="35053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809440" y="322416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08920" y="5630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08920" y="5349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08920" y="5068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08920" y="4799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08920" y="45180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8920" y="423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08920" y="3954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08920" y="3673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08920" y="3403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08920" y="3122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85080" y="4248000"/>
              <a:ext cx="69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МПКТ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63920" y="448452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73520" y="5732640"/>
              <a:ext cx="3995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73520" y="57326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70440" y="57326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69160" y="57326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72880" y="5834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84200" y="5834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00200" y="6114960"/>
              <a:ext cx="357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1-изходни данни, 2- след реабилитац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46480" y="63514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22480" y="2043000"/>
              <a:ext cx="469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Динамика на МПКТ при прилагане на МСМ и Меджик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31720" y="2278080"/>
              <a:ext cx="68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калц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09040" y="4595760"/>
              <a:ext cx="37800" cy="27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59800" y="4664160"/>
              <a:ext cx="114120" cy="101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82680" y="1884240"/>
              <a:ext cx="6502320" cy="4929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новни въпроси на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L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ъде идвам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къде отивам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 какъв начин вървим към целта с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що вървим към тази це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теопороза – белег на биологическата възрас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еопороза на костите на дланите, корелация с възрастта – 0.7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знен капацитет на белите дробове, корелация с възрастта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-0.7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олично артериално налягане, корелация с възрастта – 0,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98040" y="457200"/>
            <a:ext cx="78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ПРИНЦИПИ ЗА СЪХРАНЯВАНЕ НА ЗДРАВЕ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720" y="1981080"/>
            <a:ext cx="835200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яко трайно отклонение от хомеостаза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увеличаващо вероятността да се стигне до смъртен изход, е боле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инципът на нормите, зависещи от възрастта, е пътя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одещ не към запазване на нормите и здравет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а към запазване на нормите на заболяване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е достатъчно човек да е здрав, трябва да бъде в норма (нормата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табилност на хомеостаза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араметрите на нормата са еднакви за всички възр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офилактичното лечение трябва да бъде правило, а не изклю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оля на международния Коралов Клуб и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B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родукция с най- високо качество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Достъпност на продукция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бразователна мис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Информационна мис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040" y="297144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МИСИЯТА НА КОРАЛ КЛУБ Е ДА ПРАВИ ХОРАТА ЩАСТЛИВИ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пространеност на остеопорозата и нейното влиян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Щ- 24 млн. души, страдащи от остеопор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47 хиляди счупвания на шийката на бедрото, което (1985 год) в 30 хиляди от случаите е довело до смъ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10 000 000 000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$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- ежегодни разходи з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сква- остеопороза при 28% от изследвани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Цели и задачи за изследван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аване на разпространеността на остеопорозата сред работещи при вредни условия на труд (черна и цветна металург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спериментална и клинична обосновка на методите за реабилитация на лицата, страдащи от остеопоро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зпространеност на остеопорозата сред работещите в предприятията на черната металург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25440" y="1981080"/>
          <a:ext cx="72262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1981080"/>
                    <a:ext cx="7226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зпространеност на остеопорозата сред работещите в предприятията на цветната металург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905120"/>
          <a:ext cx="78483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848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искови фактори за развитие на остеопоро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ъзра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 ( бременност, лактация, недостиг на естрогени, тестостерон- риск от развитие на остеопор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уктура (светли коси, светли очи- признак за риск от развитие на остеопороз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ови особености (негрите са по- малко изложени на риск от развитие на остеопороза, по- често тя се развива при жителите на Северна Европа, Япо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аба физическа активн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чин на живот (пушене, злоупотреба с кафе и алкохол- риск от развитие на остеопор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ологични и професионали факт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фицит на кал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обходимо количество калций за едно денонощ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ца до 5 години                  800 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растващи (до 16г.)         1500 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и до 50 години              1000 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еменни                            1200 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ъзраст над 60 години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мъжете и над 50 годи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жените                             1500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Храни, източници на калций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( за 100 г продукт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яко                         100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ле                             60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ина                       240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окал                      35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дем                         254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ял хляб                      30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веждо месо               30 м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ото количество калций за едно денонощие при начин на хранене без млечни продукти е   450 мг, с млечни продукти – 9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olina Kortelova</cp:lastModifiedBy>
  <dcterms:modified xsi:type="dcterms:W3CDTF">2009-10-25T19:40:21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